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820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17800"/>
            <a:ext cx="54082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3308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DBEB-FE5F-42C9-9997-C2780CCB9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85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6080" y="4717800"/>
            <a:ext cx="54082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28960" y="9433080"/>
            <a:ext cx="2930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58A0-5FCA-442B-9968-18376FC8C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210-75CA-4CA3-8B9A-47DB8120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9E8-CAB2-46ED-B868-1F1EC5F2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3A9-239C-4533-979F-CBDD4AB0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04D-965B-460C-9148-0A9D8D7B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90F-23A1-427E-BD97-2F506C51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D81-6F18-4FAE-9FAA-4305F61D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074-1BD1-4849-9A5C-A5650EB4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68D-78BF-48AF-BDDA-004AB856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2D7-9F2B-4728-A3DA-0B38AD25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99B-0CEB-47A4-8EC9-52CC1F68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AA1-5854-4A2B-87E5-0EF27CAF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7C6-DFC5-4C51-9D81-E2409A45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EB7B-FEB0-4929-A17A-09394F122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4286160" y="4786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cca Zh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857840" y="5500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TK Operation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GPRS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AutoShape 5"/>
          <p:cNvGrpSpPr/>
          <p:nvPr/>
        </p:nvGrpSpPr>
        <p:grpSpPr>
          <a:xfrm>
            <a:off x="1762200" y="3187800"/>
            <a:ext cx="6003720" cy="592200"/>
            <a:chOff x="1762200" y="3187800"/>
            <a:chExt cx="6003720" cy="592200"/>
          </a:xfrm>
        </p:grpSpPr>
        <p:pic>
          <p:nvPicPr>
            <p:cNvPr id="105" name="AutoShape 5" descr=""/>
            <p:cNvPicPr/>
            <p:nvPr/>
          </p:nvPicPr>
          <p:blipFill>
            <a:blip r:embed="rId1"/>
            <a:stretch/>
          </p:blipFill>
          <p:spPr>
            <a:xfrm>
              <a:off x="1762200" y="3187800"/>
              <a:ext cx="60037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808280" y="3236760"/>
              <a:ext cx="58402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One Base + One R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8"/>
          <p:cNvSpPr/>
          <p:nvPr/>
        </p:nvSpPr>
        <p:spPr>
          <a:xfrm>
            <a:off x="1785960" y="392904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RS Mode _ Inner V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1785960" y="250020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100000">
                <a:srgbClr val="004747">
                  <a:alpha val="90196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PRS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1785960" y="464328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ORS Mode _ PDA V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One Base and One 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571680" y="1428840"/>
            <a:ext cx="3857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ocol: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928800" y="3357720"/>
            <a:ext cx="3286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DP , e.g.99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CP Clients, e.g.9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2010-07-01-19-57-44-39.JPG"/>
          <p:cNvPicPr/>
          <p:nvPr/>
        </p:nvPicPr>
        <p:blipFill>
          <a:blip r:embed="rId1"/>
          <a:stretch/>
        </p:blipFill>
        <p:spPr>
          <a:xfrm>
            <a:off x="4965840" y="1857240"/>
            <a:ext cx="1963440" cy="2619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357120" y="4357800"/>
            <a:ext cx="5000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N Name, Mobile Server No., User Name and Password are provided by the GPRS service provi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2010-07-01-20-08-45-40.JPG"/>
          <p:cNvPicPr/>
          <p:nvPr/>
        </p:nvPicPr>
        <p:blipFill>
          <a:blip r:embed="rId2"/>
          <a:stretch/>
        </p:blipFill>
        <p:spPr>
          <a:xfrm>
            <a:off x="7000920" y="2833560"/>
            <a:ext cx="2000160" cy="26672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0"/>
          <p:cNvSpPr/>
          <p:nvPr/>
        </p:nvSpPr>
        <p:spPr>
          <a:xfrm>
            <a:off x="5929200" y="2500200"/>
            <a:ext cx="5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One Base and One 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42960" y="1857240"/>
            <a:ext cx="2857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d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2010-07-01-20-13-58-62.JPG"/>
          <p:cNvPicPr/>
          <p:nvPr/>
        </p:nvPicPr>
        <p:blipFill>
          <a:blip r:embed="rId1"/>
          <a:stretch/>
        </p:blipFill>
        <p:spPr>
          <a:xfrm>
            <a:off x="5500800" y="202392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642960" y="2786040"/>
            <a:ext cx="378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ver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42960" y="3714840"/>
            <a:ext cx="2857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dio &amp; GP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11"/>
          <p:cNvSpPr/>
          <p:nvPr/>
        </p:nvSpPr>
        <p:spPr>
          <a:xfrm>
            <a:off x="1357200" y="2286000"/>
            <a:ext cx="500040" cy="5716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own Arrow 12"/>
          <p:cNvSpPr/>
          <p:nvPr/>
        </p:nvSpPr>
        <p:spPr>
          <a:xfrm>
            <a:off x="1357200" y="3214800"/>
            <a:ext cx="500040" cy="5713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One Base and One 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42960" y="1785960"/>
            <a:ext cx="2857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d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42960" y="2786040"/>
            <a:ext cx="378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ver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642960" y="3714840"/>
            <a:ext cx="2857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er V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wn Arrow 11"/>
          <p:cNvSpPr/>
          <p:nvPr/>
        </p:nvSpPr>
        <p:spPr>
          <a:xfrm>
            <a:off x="1357200" y="2286000"/>
            <a:ext cx="500040" cy="5716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wn Arrow 12"/>
          <p:cNvSpPr/>
          <p:nvPr/>
        </p:nvSpPr>
        <p:spPr>
          <a:xfrm>
            <a:off x="1357200" y="3214800"/>
            <a:ext cx="500040" cy="5713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57120" y="4572000"/>
            <a:ext cx="31431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Check the GPRS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4" descr="2010-07-02-10-50-40-67.JPG"/>
          <p:cNvPicPr/>
          <p:nvPr/>
        </p:nvPicPr>
        <p:blipFill>
          <a:blip r:embed="rId1"/>
          <a:stretch/>
        </p:blipFill>
        <p:spPr>
          <a:xfrm>
            <a:off x="5643720" y="242892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One Base and One 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2010-07-02-10-47-23-57.JPG"/>
          <p:cNvPicPr/>
          <p:nvPr/>
        </p:nvPicPr>
        <p:blipFill>
          <a:blip r:embed="rId1"/>
          <a:stretch/>
        </p:blipFill>
        <p:spPr>
          <a:xfrm>
            <a:off x="1571760" y="2286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010-07-02-10-47-29-25.JPG"/>
          <p:cNvPicPr/>
          <p:nvPr/>
        </p:nvPicPr>
        <p:blipFill>
          <a:blip r:embed="rId2"/>
          <a:stretch/>
        </p:blipFill>
        <p:spPr>
          <a:xfrm>
            <a:off x="5500800" y="22860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TK Operation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GPRS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AutoShape 5"/>
          <p:cNvGrpSpPr/>
          <p:nvPr/>
        </p:nvGrpSpPr>
        <p:grpSpPr>
          <a:xfrm>
            <a:off x="1762200" y="3975120"/>
            <a:ext cx="5979960" cy="590400"/>
            <a:chOff x="1762200" y="3975120"/>
            <a:chExt cx="5979960" cy="590400"/>
          </a:xfrm>
        </p:grpSpPr>
        <p:pic>
          <p:nvPicPr>
            <p:cNvPr id="137" name="AutoShape 5" descr=""/>
            <p:cNvPicPr/>
            <p:nvPr/>
          </p:nvPicPr>
          <p:blipFill>
            <a:blip r:embed="rId1"/>
            <a:stretch/>
          </p:blipFill>
          <p:spPr>
            <a:xfrm>
              <a:off x="1762200" y="3975120"/>
              <a:ext cx="59799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808280" y="4022640"/>
              <a:ext cx="58132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ORS Mode _ Inner V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AutoShape 8"/>
          <p:cNvSpPr/>
          <p:nvPr/>
        </p:nvSpPr>
        <p:spPr>
          <a:xfrm>
            <a:off x="1785960" y="2533680"/>
            <a:ext cx="583884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PRS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1785960" y="328608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100000">
                <a:srgbClr val="004747">
                  <a:alpha val="90196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One Base + One 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1785960" y="464328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ORS Mode _ PDA V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CORS Mode_ Inner V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42920" y="1857240"/>
            <a:ext cx="28573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ocol: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4" descr="2010-07-02-14-03-10-43.JPG"/>
          <p:cNvPicPr/>
          <p:nvPr/>
        </p:nvPicPr>
        <p:blipFill>
          <a:blip r:embed="rId1"/>
          <a:stretch/>
        </p:blipFill>
        <p:spPr>
          <a:xfrm>
            <a:off x="2643120" y="164304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2010-07-02-14-03-37-06.JPG"/>
          <p:cNvPicPr/>
          <p:nvPr/>
        </p:nvPicPr>
        <p:blipFill>
          <a:blip r:embed="rId2"/>
          <a:stretch/>
        </p:blipFill>
        <p:spPr>
          <a:xfrm>
            <a:off x="6215040" y="164304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1643040" y="5000760"/>
            <a:ext cx="39290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N Name, Mobile Server No., User Name and Password are provided by the GPRS service provi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643720" y="4929120"/>
            <a:ext cx="3500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, Password, Source List and Diff. Type are provided by CORS centre.  However, it is not suggested to be inputted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CORS Mode_ Inner V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42960" y="1857240"/>
            <a:ext cx="2857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d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42960" y="2786040"/>
            <a:ext cx="378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ver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642960" y="3714840"/>
            <a:ext cx="2857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er V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wn Arrow 11"/>
          <p:cNvSpPr/>
          <p:nvPr/>
        </p:nvSpPr>
        <p:spPr>
          <a:xfrm>
            <a:off x="1357200" y="2286000"/>
            <a:ext cx="500040" cy="5716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own Arrow 12"/>
          <p:cNvSpPr/>
          <p:nvPr/>
        </p:nvSpPr>
        <p:spPr>
          <a:xfrm>
            <a:off x="1357200" y="3214800"/>
            <a:ext cx="500040" cy="5713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2010-07-02-14-09-01-15.JPG"/>
          <p:cNvPicPr/>
          <p:nvPr/>
        </p:nvPicPr>
        <p:blipFill>
          <a:blip r:embed="rId1"/>
          <a:stretch/>
        </p:blipFill>
        <p:spPr>
          <a:xfrm>
            <a:off x="3571920" y="216684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2010-07-02-14-10-06-79.JPG"/>
          <p:cNvPicPr/>
          <p:nvPr/>
        </p:nvPicPr>
        <p:blipFill>
          <a:blip r:embed="rId2"/>
          <a:stretch/>
        </p:blipFill>
        <p:spPr>
          <a:xfrm>
            <a:off x="6286680" y="21430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One Base and One 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5" descr="2010-07-02-10-47-23-57.JPG"/>
          <p:cNvPicPr/>
          <p:nvPr/>
        </p:nvPicPr>
        <p:blipFill>
          <a:blip r:embed="rId1"/>
          <a:stretch/>
        </p:blipFill>
        <p:spPr>
          <a:xfrm>
            <a:off x="1571760" y="2286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2010-07-02-10-47-29-25.JPG"/>
          <p:cNvPicPr/>
          <p:nvPr/>
        </p:nvPicPr>
        <p:blipFill>
          <a:blip r:embed="rId2"/>
          <a:stretch/>
        </p:blipFill>
        <p:spPr>
          <a:xfrm>
            <a:off x="5500800" y="22860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TK Operation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GPRS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AutoShape 5"/>
          <p:cNvGrpSpPr/>
          <p:nvPr/>
        </p:nvGrpSpPr>
        <p:grpSpPr>
          <a:xfrm>
            <a:off x="1835280" y="4834080"/>
            <a:ext cx="5979960" cy="585720"/>
            <a:chOff x="1835280" y="4834080"/>
            <a:chExt cx="5979960" cy="585720"/>
          </a:xfrm>
        </p:grpSpPr>
        <p:pic>
          <p:nvPicPr>
            <p:cNvPr id="161" name="AutoShape 5" descr=""/>
            <p:cNvPicPr/>
            <p:nvPr/>
          </p:nvPicPr>
          <p:blipFill>
            <a:blip r:embed="rId1"/>
            <a:stretch/>
          </p:blipFill>
          <p:spPr>
            <a:xfrm>
              <a:off x="1835280" y="4834080"/>
              <a:ext cx="59799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879560" y="4879800"/>
              <a:ext cx="58136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CORS Mode _ PDA V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AutoShape 8"/>
          <p:cNvSpPr/>
          <p:nvPr/>
        </p:nvSpPr>
        <p:spPr>
          <a:xfrm>
            <a:off x="1785960" y="2533680"/>
            <a:ext cx="583884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PRS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1785960" y="328608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100000">
                <a:srgbClr val="004747">
                  <a:alpha val="90196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One Base + One 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1805040" y="403380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ORS Mode _ Inner V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TK Operation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GPRS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AutoShape 5"/>
          <p:cNvGrpSpPr/>
          <p:nvPr/>
        </p:nvGrpSpPr>
        <p:grpSpPr>
          <a:xfrm>
            <a:off x="1762200" y="2548080"/>
            <a:ext cx="6003720" cy="585720"/>
            <a:chOff x="1762200" y="2548080"/>
            <a:chExt cx="6003720" cy="585720"/>
          </a:xfrm>
        </p:grpSpPr>
        <p:pic>
          <p:nvPicPr>
            <p:cNvPr id="52" name="AutoShape 5" descr=""/>
            <p:cNvPicPr/>
            <p:nvPr/>
          </p:nvPicPr>
          <p:blipFill>
            <a:blip r:embed="rId1"/>
            <a:stretch/>
          </p:blipFill>
          <p:spPr>
            <a:xfrm>
              <a:off x="1762200" y="2548080"/>
              <a:ext cx="60037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808280" y="2593800"/>
              <a:ext cx="58402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GPRS Softw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8"/>
          <p:cNvSpPr/>
          <p:nvPr/>
        </p:nvSpPr>
        <p:spPr>
          <a:xfrm>
            <a:off x="1785960" y="392904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RS Mode _ Inner V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785960" y="328608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100000">
                <a:srgbClr val="004747">
                  <a:alpha val="90196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One Base + One 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1785960" y="4643280"/>
            <a:ext cx="58388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ORS Mode _ PDA V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CORS Mode_ PDA V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3214800"/>
            <a:ext cx="378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Work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own Arrow 12"/>
          <p:cNvSpPr/>
          <p:nvPr/>
        </p:nvSpPr>
        <p:spPr>
          <a:xfrm>
            <a:off x="1285920" y="2500200"/>
            <a:ext cx="500040" cy="5716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2010-07-02-11-28-53-87.JPG"/>
          <p:cNvPicPr/>
          <p:nvPr/>
        </p:nvPicPr>
        <p:blipFill>
          <a:blip r:embed="rId1"/>
          <a:stretch/>
        </p:blipFill>
        <p:spPr>
          <a:xfrm>
            <a:off x="5857920" y="1643040"/>
            <a:ext cx="1874880" cy="2500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9" descr="2010-07-02-11-29-10-26.JPG"/>
          <p:cNvPicPr/>
          <p:nvPr/>
        </p:nvPicPr>
        <p:blipFill>
          <a:blip r:embed="rId2"/>
          <a:stretch/>
        </p:blipFill>
        <p:spPr>
          <a:xfrm>
            <a:off x="3500280" y="1643040"/>
            <a:ext cx="1857600" cy="2476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0" descr="2010-07-02-11-29-24-14.JPG"/>
          <p:cNvPicPr/>
          <p:nvPr/>
        </p:nvPicPr>
        <p:blipFill>
          <a:blip r:embed="rId3"/>
          <a:stretch/>
        </p:blipFill>
        <p:spPr>
          <a:xfrm>
            <a:off x="3500280" y="4214880"/>
            <a:ext cx="1874880" cy="25002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0" y="1928880"/>
            <a:ext cx="3857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DA Connections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own Arrow 22"/>
          <p:cNvSpPr/>
          <p:nvPr/>
        </p:nvSpPr>
        <p:spPr>
          <a:xfrm>
            <a:off x="1285920" y="3643200"/>
            <a:ext cx="500040" cy="5716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4286160"/>
            <a:ext cx="378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a new modem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4" descr="2010-07-02-11-30-57-12.JPG"/>
          <p:cNvPicPr/>
          <p:nvPr/>
        </p:nvPicPr>
        <p:blipFill>
          <a:blip r:embed="rId4"/>
          <a:stretch/>
        </p:blipFill>
        <p:spPr>
          <a:xfrm>
            <a:off x="5857920" y="4286160"/>
            <a:ext cx="1857240" cy="2476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CORS Mode_ PDA V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1280" y="1785960"/>
            <a:ext cx="2857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d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71280" y="2928960"/>
            <a:ext cx="378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ver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71280" y="3929040"/>
            <a:ext cx="2857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DA V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own Arrow 11"/>
          <p:cNvSpPr/>
          <p:nvPr/>
        </p:nvSpPr>
        <p:spPr>
          <a:xfrm>
            <a:off x="571680" y="2357280"/>
            <a:ext cx="500040" cy="5716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own Arrow 12"/>
          <p:cNvSpPr/>
          <p:nvPr/>
        </p:nvSpPr>
        <p:spPr>
          <a:xfrm>
            <a:off x="642960" y="3429000"/>
            <a:ext cx="500040" cy="5716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7" descr="2010-07-02-11-51-30-46.JPG"/>
          <p:cNvPicPr/>
          <p:nvPr/>
        </p:nvPicPr>
        <p:blipFill>
          <a:blip r:embed="rId1"/>
          <a:stretch/>
        </p:blipFill>
        <p:spPr>
          <a:xfrm>
            <a:off x="3143160" y="1928880"/>
            <a:ext cx="1928880" cy="2571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2010-07-02-13-43-10-37.JPG"/>
          <p:cNvPicPr/>
          <p:nvPr/>
        </p:nvPicPr>
        <p:blipFill>
          <a:blip r:embed="rId2"/>
          <a:stretch/>
        </p:blipFill>
        <p:spPr>
          <a:xfrm>
            <a:off x="5072040" y="2786040"/>
            <a:ext cx="1874880" cy="2500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9" descr="2010-07-02-13-59-14-29.JPG"/>
          <p:cNvPicPr/>
          <p:nvPr/>
        </p:nvPicPr>
        <p:blipFill>
          <a:blip r:embed="rId3"/>
          <a:stretch/>
        </p:blipFill>
        <p:spPr>
          <a:xfrm>
            <a:off x="7000920" y="3643200"/>
            <a:ext cx="1928880" cy="25718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214200" y="5143680"/>
            <a:ext cx="53578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5a1d"/>
                </a:solidFill>
                <a:latin typeface="Arial"/>
              </a:rPr>
              <a:t>HCGPRS software works on the Receiver Interna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571680" y="2214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Lucida Handwriting"/>
                <a:ea typeface="隶书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Lucida Handwriting"/>
                <a:ea typeface="隶书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476360" y="47145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8b2d"/>
                </a:solidFill>
                <a:latin typeface="Lucida Handwriting"/>
              </a:rPr>
              <a:t>http://www.chcnav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65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Software in RT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500040" y="3357720"/>
            <a:ext cx="20001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1280" y="1714680"/>
            <a:ext cx="4429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cGPSset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eld Software for Receiver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C:\DOCUME~1\ZHJ\LOCALS~1\Temp\W7T7F%~%0~IW({5PH2SFSF5.jpg"/>
          <p:cNvPicPr/>
          <p:nvPr/>
        </p:nvPicPr>
        <p:blipFill>
          <a:blip r:embed="rId1"/>
          <a:stretch/>
        </p:blipFill>
        <p:spPr>
          <a:xfrm>
            <a:off x="5143680" y="2286000"/>
            <a:ext cx="323676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oftware in R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1643040"/>
            <a:ext cx="40006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cGPRS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eld software for Radio and GPRS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2010-07-01-19-54-43-48.JPG"/>
          <p:cNvPicPr/>
          <p:nvPr/>
        </p:nvPicPr>
        <p:blipFill>
          <a:blip r:embed="rId1"/>
          <a:stretch/>
        </p:blipFill>
        <p:spPr>
          <a:xfrm>
            <a:off x="2928960" y="3452760"/>
            <a:ext cx="192888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2010-07-01-19-57-44-39.JPG"/>
          <p:cNvPicPr/>
          <p:nvPr/>
        </p:nvPicPr>
        <p:blipFill>
          <a:blip r:embed="rId2"/>
          <a:stretch/>
        </p:blipFill>
        <p:spPr>
          <a:xfrm>
            <a:off x="4894200" y="2500200"/>
            <a:ext cx="1963800" cy="2619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3714840"/>
            <a:ext cx="40006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mode as G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PRS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S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2010-07-02-14-03-37-06.JPG"/>
          <p:cNvPicPr/>
          <p:nvPr/>
        </p:nvPicPr>
        <p:blipFill>
          <a:blip r:embed="rId3"/>
          <a:stretch/>
        </p:blipFill>
        <p:spPr>
          <a:xfrm>
            <a:off x="6786720" y="3500280"/>
            <a:ext cx="1928520" cy="2571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10"/>
          <p:cNvSpPr/>
          <p:nvPr/>
        </p:nvSpPr>
        <p:spPr>
          <a:xfrm>
            <a:off x="5857920" y="3143160"/>
            <a:ext cx="57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oftware in R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14200" y="1643040"/>
            <a:ext cx="40006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ndStar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eld software RTK 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3714840"/>
            <a:ext cx="40006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ver Parame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o&amp; G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ner V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A V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010-07-02-10-47-55-29.JPG"/>
          <p:cNvPicPr/>
          <p:nvPr/>
        </p:nvPicPr>
        <p:blipFill>
          <a:blip r:embed="rId1"/>
          <a:stretch/>
        </p:blipFill>
        <p:spPr>
          <a:xfrm>
            <a:off x="5572080" y="321480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oftware in R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14200" y="1643040"/>
            <a:ext cx="40006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PIS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er Software for GPRS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3714840"/>
            <a:ext cx="40006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DP Point to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DP Point to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CP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`FEXYLWFYY1Z7_G_2U8HASY"/>
          <p:cNvPicPr/>
          <p:nvPr/>
        </p:nvPicPr>
        <p:blipFill>
          <a:blip r:embed="rId1"/>
          <a:srcRect l="0" t="3923" r="0" b="5884"/>
          <a:stretch/>
        </p:blipFill>
        <p:spPr>
          <a:xfrm>
            <a:off x="3992400" y="2714760"/>
            <a:ext cx="4648320" cy="3286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oftware in RT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RTK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3143160" y="1785960"/>
            <a:ext cx="2643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a786"/>
                </a:solidFill>
                <a:latin typeface="Arial"/>
              </a:rPr>
              <a:t>First time set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wn Arrow 10"/>
          <p:cNvSpPr/>
          <p:nvPr/>
        </p:nvSpPr>
        <p:spPr>
          <a:xfrm>
            <a:off x="1285920" y="28576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wn Arrow 20"/>
          <p:cNvSpPr/>
          <p:nvPr/>
        </p:nvSpPr>
        <p:spPr>
          <a:xfrm>
            <a:off x="4214880" y="28576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3429000" y="2428920"/>
            <a:ext cx="2428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GPRS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Down Arrow 24"/>
          <p:cNvSpPr/>
          <p:nvPr/>
        </p:nvSpPr>
        <p:spPr>
          <a:xfrm>
            <a:off x="7286760" y="28576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214200" y="2428920"/>
            <a:ext cx="3143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Receiver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ntent Placeholder 2"/>
          <p:cNvSpPr/>
          <p:nvPr/>
        </p:nvSpPr>
        <p:spPr>
          <a:xfrm>
            <a:off x="6072120" y="2214720"/>
            <a:ext cx="3071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CORS Info and Survey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tent Placeholder 2"/>
          <p:cNvSpPr/>
          <p:nvPr/>
        </p:nvSpPr>
        <p:spPr>
          <a:xfrm>
            <a:off x="6786720" y="3571920"/>
            <a:ext cx="1571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nds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2"/>
          <p:cNvSpPr/>
          <p:nvPr/>
        </p:nvSpPr>
        <p:spPr>
          <a:xfrm>
            <a:off x="3643200" y="3571920"/>
            <a:ext cx="3143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CGP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571680" y="3571920"/>
            <a:ext cx="3143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cGPS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oftware in RT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RTK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2786040" y="1785960"/>
            <a:ext cx="3643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a786"/>
                </a:solidFill>
                <a:latin typeface="Arial"/>
              </a:rPr>
              <a:t>Not First time set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own Arrow 10"/>
          <p:cNvSpPr/>
          <p:nvPr/>
        </p:nvSpPr>
        <p:spPr>
          <a:xfrm>
            <a:off x="1285920" y="28576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own Arrow 20"/>
          <p:cNvSpPr/>
          <p:nvPr/>
        </p:nvSpPr>
        <p:spPr>
          <a:xfrm>
            <a:off x="4214880" y="28576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3429000" y="2428920"/>
            <a:ext cx="2428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Radio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24"/>
          <p:cNvSpPr/>
          <p:nvPr/>
        </p:nvSpPr>
        <p:spPr>
          <a:xfrm>
            <a:off x="7286760" y="28576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tent Placeholder 2"/>
          <p:cNvSpPr/>
          <p:nvPr/>
        </p:nvSpPr>
        <p:spPr>
          <a:xfrm>
            <a:off x="214200" y="2428920"/>
            <a:ext cx="3143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Receiver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6215040" y="2214720"/>
            <a:ext cx="2928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CORS Info and Survey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ontent Placeholder 2"/>
          <p:cNvSpPr/>
          <p:nvPr/>
        </p:nvSpPr>
        <p:spPr>
          <a:xfrm>
            <a:off x="6786720" y="3571920"/>
            <a:ext cx="1571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nds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2"/>
          <p:cNvSpPr/>
          <p:nvPr/>
        </p:nvSpPr>
        <p:spPr>
          <a:xfrm>
            <a:off x="3643200" y="3571920"/>
            <a:ext cx="3143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CGP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571680" y="3571920"/>
            <a:ext cx="3143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cGPS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oftware in RT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RTK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tent Placeholder 2"/>
          <p:cNvSpPr/>
          <p:nvPr/>
        </p:nvSpPr>
        <p:spPr>
          <a:xfrm>
            <a:off x="642960" y="1857240"/>
            <a:ext cx="8072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a786"/>
                </a:solidFill>
                <a:latin typeface="Arial"/>
              </a:rPr>
              <a:t>Not first time setup, No Changes on the GPRS Set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own Arrow 24"/>
          <p:cNvSpPr/>
          <p:nvPr/>
        </p:nvSpPr>
        <p:spPr>
          <a:xfrm>
            <a:off x="4000680" y="3143160"/>
            <a:ext cx="357120" cy="5716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25a1d"/>
          </a:soli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1928880" y="2643120"/>
            <a:ext cx="5357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CORS Info and Survey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3429000" y="3929040"/>
            <a:ext cx="1571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nds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05:06:16Z</dcterms:created>
  <dc:creator>roy</dc:creator>
  <dc:description/>
  <dc:language>en-US</dc:language>
  <cp:lastModifiedBy>张海蛟</cp:lastModifiedBy>
  <dcterms:modified xsi:type="dcterms:W3CDTF">2010-07-08T05:56:50Z</dcterms:modified>
  <cp:revision>649</cp:revision>
  <dc:subject/>
  <dc:title>幻灯片 1</dc:title>
</cp:coreProperties>
</file>