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820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17800"/>
            <a:ext cx="54082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3308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A833-637C-483B-8991-07EDF9B58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6080" y="4717800"/>
            <a:ext cx="54082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28960" y="9433080"/>
            <a:ext cx="2930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A6CA-4400-46C4-8578-5D174CA06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6080" y="4717800"/>
            <a:ext cx="54082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28960" y="9433080"/>
            <a:ext cx="2930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A16B-5833-4FF7-8072-D4E088A45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6080" y="4717800"/>
            <a:ext cx="54082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Baseline – (Up to 200 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Observation Time - 5 minutes observation time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Within 30 k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28960" y="9433080"/>
            <a:ext cx="2930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AB64-AAA3-44ED-AE03-FD2744ABD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0BC-57D8-4245-98B4-AA41B25F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283-562C-444B-97A0-6C52771E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470-48AA-490A-B0C1-E8E75DB3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053-4EA1-45D2-A135-69BB5571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FAD-34EC-49DF-BCAA-7BF4E74E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106-466B-4EBB-B15F-AC0B97D1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D87-1B8F-45DB-9284-BD43C809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D4A-3F79-4A38-BE07-708049EE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EB9-E04C-4854-989C-F914D82E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297-098A-46A4-8EAF-24CD39CF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74B-A1EB-4119-9989-375424F1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CB3-F60A-4531-9431-2B79BB17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159F-87FD-436E-A574-AEB2C39D7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286160" y="4786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cca Z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857840" y="5500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RTK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3143160" y="1785960"/>
            <a:ext cx="2643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786"/>
                </a:solidFill>
                <a:latin typeface="Arial"/>
              </a:rPr>
              <a:t>First time set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10"/>
          <p:cNvSpPr/>
          <p:nvPr/>
        </p:nvSpPr>
        <p:spPr>
          <a:xfrm>
            <a:off x="128592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0"/>
          <p:cNvSpPr/>
          <p:nvPr/>
        </p:nvSpPr>
        <p:spPr>
          <a:xfrm>
            <a:off x="421488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3429000" y="2428920"/>
            <a:ext cx="2428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Radio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24"/>
          <p:cNvSpPr/>
          <p:nvPr/>
        </p:nvSpPr>
        <p:spPr>
          <a:xfrm>
            <a:off x="728676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2"/>
          <p:cNvSpPr/>
          <p:nvPr/>
        </p:nvSpPr>
        <p:spPr>
          <a:xfrm>
            <a:off x="214200" y="2428920"/>
            <a:ext cx="3143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Receiver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6286680" y="2428920"/>
            <a:ext cx="2928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Survey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6786720" y="3571920"/>
            <a:ext cx="1571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tent Placeholder 2"/>
          <p:cNvSpPr/>
          <p:nvPr/>
        </p:nvSpPr>
        <p:spPr>
          <a:xfrm>
            <a:off x="3643200" y="3571920"/>
            <a:ext cx="3143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CGP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571680" y="3571920"/>
            <a:ext cx="3143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cGPS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RTK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2786040" y="1785960"/>
            <a:ext cx="3643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786"/>
                </a:solidFill>
                <a:latin typeface="Arial"/>
              </a:rPr>
              <a:t>Not First time set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own Arrow 10"/>
          <p:cNvSpPr/>
          <p:nvPr/>
        </p:nvSpPr>
        <p:spPr>
          <a:xfrm>
            <a:off x="128592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own Arrow 20"/>
          <p:cNvSpPr/>
          <p:nvPr/>
        </p:nvSpPr>
        <p:spPr>
          <a:xfrm>
            <a:off x="421488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3429000" y="2428920"/>
            <a:ext cx="2428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Radio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own Arrow 24"/>
          <p:cNvSpPr/>
          <p:nvPr/>
        </p:nvSpPr>
        <p:spPr>
          <a:xfrm>
            <a:off x="728676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214200" y="2428920"/>
            <a:ext cx="3143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Receiver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6286680" y="2428920"/>
            <a:ext cx="2928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Survey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6786720" y="3571920"/>
            <a:ext cx="1571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3643200" y="3571920"/>
            <a:ext cx="3143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CGP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571680" y="3571920"/>
            <a:ext cx="3143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cGPS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RTK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2786040" y="1857240"/>
            <a:ext cx="3357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786"/>
                </a:solidFill>
                <a:latin typeface="Arial"/>
              </a:rPr>
              <a:t>Not first time set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n Arrow 24"/>
          <p:cNvSpPr/>
          <p:nvPr/>
        </p:nvSpPr>
        <p:spPr>
          <a:xfrm>
            <a:off x="4000680" y="3143160"/>
            <a:ext cx="357120" cy="5716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3143160" y="2643120"/>
            <a:ext cx="2928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Survey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3429000" y="3929040"/>
            <a:ext cx="1571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TK Operation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dio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AutoShape 5"/>
          <p:cNvGrpSpPr/>
          <p:nvPr/>
        </p:nvGrpSpPr>
        <p:grpSpPr>
          <a:xfrm>
            <a:off x="1762200" y="3975120"/>
            <a:ext cx="6003720" cy="590400"/>
            <a:chOff x="1762200" y="3975120"/>
            <a:chExt cx="6003720" cy="590400"/>
          </a:xfrm>
        </p:grpSpPr>
        <p:pic>
          <p:nvPicPr>
            <p:cNvPr id="119" name="AutoShape 5" descr=""/>
            <p:cNvPicPr/>
            <p:nvPr/>
          </p:nvPicPr>
          <p:blipFill>
            <a:blip r:embed="rId1"/>
            <a:stretch/>
          </p:blipFill>
          <p:spPr>
            <a:xfrm>
              <a:off x="1762200" y="3975120"/>
              <a:ext cx="60037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808280" y="4022640"/>
              <a:ext cx="5840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Setup B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8"/>
          <p:cNvSpPr/>
          <p:nvPr/>
        </p:nvSpPr>
        <p:spPr>
          <a:xfrm>
            <a:off x="1785960" y="335772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ftware in RT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785960" y="46432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tup 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1785960" y="257184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100000">
                <a:srgbClr val="004747">
                  <a:alpha val="90196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eatures of CHC RTK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785960" y="535788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mmon Problems an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0200"/>
            <a:ext cx="3328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ble connection for Base and Radio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DOCUME~1\ZHJ\LOCALS~1\Temp\D)4R@F}[X5_M8_%IRZ~L$6P.jpg"/>
          <p:cNvPicPr/>
          <p:nvPr/>
        </p:nvPicPr>
        <p:blipFill>
          <a:blip r:embed="rId1"/>
          <a:stretch/>
        </p:blipFill>
        <p:spPr>
          <a:xfrm>
            <a:off x="3243240" y="2143080"/>
            <a:ext cx="5900760" cy="3357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~1\ZHJ\LOCALS~1\Temp\@G{SXA4HPLO$4(4_SSE1LOI.jpg"/>
          <p:cNvPicPr/>
          <p:nvPr/>
        </p:nvPicPr>
        <p:blipFill>
          <a:blip r:embed="rId1"/>
          <a:stretch/>
        </p:blipFill>
        <p:spPr>
          <a:xfrm>
            <a:off x="4000680" y="1714680"/>
            <a:ext cx="4514760" cy="265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DOCUME~1\ZHJ\LOCALS~1\Temp\]1ZIPYFKA0]15%IV8WK_T@O.jpg"/>
          <p:cNvPicPr/>
          <p:nvPr/>
        </p:nvPicPr>
        <p:blipFill>
          <a:blip r:embed="rId2"/>
          <a:stretch/>
        </p:blipFill>
        <p:spPr>
          <a:xfrm>
            <a:off x="2214720" y="4305240"/>
            <a:ext cx="4724280" cy="2552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Base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2000160"/>
            <a:ext cx="8329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Base Station by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working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1214280" y="3429000"/>
            <a:ext cx="6643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rt the Base Station at Known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rt the Base Station at Unknown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2214720" y="4286160"/>
            <a:ext cx="66434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Arrow 7"/>
          <p:cNvSpPr/>
          <p:nvPr/>
        </p:nvSpPr>
        <p:spPr>
          <a:xfrm>
            <a:off x="5429160" y="1928880"/>
            <a:ext cx="78588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8"/>
          <p:cNvSpPr/>
          <p:nvPr/>
        </p:nvSpPr>
        <p:spPr>
          <a:xfrm>
            <a:off x="5429160" y="2500200"/>
            <a:ext cx="785880" cy="3574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6215040" y="1928880"/>
            <a:ext cx="2928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cGPSset/Hc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ntent Placeholder 2"/>
          <p:cNvSpPr/>
          <p:nvPr/>
        </p:nvSpPr>
        <p:spPr>
          <a:xfrm>
            <a:off x="6572160" y="2500200"/>
            <a:ext cx="1928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 Base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71280" y="242892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know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3000240" y="2286000"/>
            <a:ext cx="2428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/3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Arrow 15"/>
          <p:cNvSpPr/>
          <p:nvPr/>
        </p:nvSpPr>
        <p:spPr>
          <a:xfrm>
            <a:off x="2428920" y="242892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ight Arrow 16"/>
          <p:cNvSpPr/>
          <p:nvPr/>
        </p:nvSpPr>
        <p:spPr>
          <a:xfrm>
            <a:off x="5429160" y="242892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4929120" y="1785960"/>
            <a:ext cx="2214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38b2d"/>
                </a:solidFill>
                <a:latin typeface="Arial"/>
              </a:rPr>
              <a:t>Turn off and turn on the Base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6643800" y="2286000"/>
            <a:ext cx="292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the Base at Know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 Base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71280" y="242892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unknow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3000240" y="2286000"/>
            <a:ext cx="2428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/3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ight Arrow 15"/>
          <p:cNvSpPr/>
          <p:nvPr/>
        </p:nvSpPr>
        <p:spPr>
          <a:xfrm>
            <a:off x="2428920" y="242892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Arrow 16"/>
          <p:cNvSpPr/>
          <p:nvPr/>
        </p:nvSpPr>
        <p:spPr>
          <a:xfrm>
            <a:off x="5429160" y="242892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5072040" y="1785960"/>
            <a:ext cx="2286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38b2d"/>
                </a:solidFill>
                <a:latin typeface="Arial"/>
              </a:rPr>
              <a:t>Turn off and turn on the Base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tent Placeholder 2"/>
          <p:cNvSpPr/>
          <p:nvPr/>
        </p:nvSpPr>
        <p:spPr>
          <a:xfrm>
            <a:off x="6643800" y="2428920"/>
            <a:ext cx="192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t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ontent Placeholder 2"/>
          <p:cNvSpPr/>
          <p:nvPr/>
        </p:nvSpPr>
        <p:spPr>
          <a:xfrm>
            <a:off x="428760" y="3643200"/>
            <a:ext cx="2000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1071720" y="292896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Arrow 10"/>
          <p:cNvSpPr/>
          <p:nvPr/>
        </p:nvSpPr>
        <p:spPr>
          <a:xfrm>
            <a:off x="1000080" y="42148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214200" y="4929120"/>
            <a:ext cx="5786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cloader Software in th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214200" y="5500800"/>
            <a:ext cx="5214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cGPSset Software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Base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285840" y="1857240"/>
            <a:ext cx="2714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ent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tent Placeholder 2"/>
          <p:cNvSpPr/>
          <p:nvPr/>
        </p:nvSpPr>
        <p:spPr>
          <a:xfrm>
            <a:off x="500040" y="2714760"/>
            <a:ext cx="8643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start the base manually, it is suggested to use cables to connect the base and the contro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r battery has enough battery for the field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TK Operation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dio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AutoShape 5"/>
          <p:cNvGrpSpPr/>
          <p:nvPr/>
        </p:nvGrpSpPr>
        <p:grpSpPr>
          <a:xfrm>
            <a:off x="1762200" y="2548080"/>
            <a:ext cx="6003720" cy="585720"/>
            <a:chOff x="1762200" y="2548080"/>
            <a:chExt cx="6003720" cy="585720"/>
          </a:xfrm>
        </p:grpSpPr>
        <p:pic>
          <p:nvPicPr>
            <p:cNvPr id="52" name="AutoShape 5" descr=""/>
            <p:cNvPicPr/>
            <p:nvPr/>
          </p:nvPicPr>
          <p:blipFill>
            <a:blip r:embed="rId1"/>
            <a:stretch/>
          </p:blipFill>
          <p:spPr>
            <a:xfrm>
              <a:off x="1762200" y="2548080"/>
              <a:ext cx="60037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808280" y="2593800"/>
              <a:ext cx="5840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Features of CHC RTK Rece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8"/>
          <p:cNvSpPr/>
          <p:nvPr/>
        </p:nvSpPr>
        <p:spPr>
          <a:xfrm>
            <a:off x="1785960" y="392904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up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785960" y="46432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tup 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785960" y="32860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100000">
                <a:srgbClr val="004747">
                  <a:alpha val="90196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ftware in RT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785960" y="535788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mmon Problems an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Radio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ontent Placeholder 2"/>
          <p:cNvSpPr/>
          <p:nvPr/>
        </p:nvSpPr>
        <p:spPr>
          <a:xfrm>
            <a:off x="285840" y="1857240"/>
            <a:ext cx="2714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ent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tent Placeholder 2"/>
          <p:cNvSpPr/>
          <p:nvPr/>
        </p:nvSpPr>
        <p:spPr>
          <a:xfrm>
            <a:off x="500040" y="2786040"/>
            <a:ext cx="864396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quence of the cable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the power cable to the Car battery in right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r battery has enough battery for the fiel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Radio Power Settings according to the working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Radio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0" y="1857240"/>
            <a:ext cx="964404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whether the Radio Station is sending signal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tent Placeholder 2"/>
          <p:cNvSpPr/>
          <p:nvPr/>
        </p:nvSpPr>
        <p:spPr>
          <a:xfrm>
            <a:off x="500040" y="2786040"/>
            <a:ext cx="81439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 light is flashing one second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wer voltage on the screen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reen light on the Rover  flashing one second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TK Operation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dio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AutoShape 5"/>
          <p:cNvGrpSpPr/>
          <p:nvPr/>
        </p:nvGrpSpPr>
        <p:grpSpPr>
          <a:xfrm>
            <a:off x="1762200" y="4687920"/>
            <a:ext cx="6003720" cy="590400"/>
            <a:chOff x="1762200" y="4687920"/>
            <a:chExt cx="6003720" cy="590400"/>
          </a:xfrm>
        </p:grpSpPr>
        <p:pic>
          <p:nvPicPr>
            <p:cNvPr id="169" name="AutoShape 5" descr=""/>
            <p:cNvPicPr/>
            <p:nvPr/>
          </p:nvPicPr>
          <p:blipFill>
            <a:blip r:embed="rId1"/>
            <a:stretch/>
          </p:blipFill>
          <p:spPr>
            <a:xfrm>
              <a:off x="1762200" y="4687920"/>
              <a:ext cx="60037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808280" y="4737240"/>
              <a:ext cx="5840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Setup R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AutoShape 8"/>
          <p:cNvSpPr/>
          <p:nvPr/>
        </p:nvSpPr>
        <p:spPr>
          <a:xfrm>
            <a:off x="1785960" y="32860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ftware in RT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1785960" y="400068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up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1785960" y="257184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100000">
                <a:srgbClr val="004747">
                  <a:alpha val="90196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eatures of CHC RTK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1785960" y="535788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mmon Problems an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Rover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00080" y="2385720"/>
            <a:ext cx="68580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Rover Station by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285840" y="3857760"/>
            <a:ext cx="2928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cGPSset/Hc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tent Placeholder 2"/>
          <p:cNvSpPr/>
          <p:nvPr/>
        </p:nvSpPr>
        <p:spPr>
          <a:xfrm>
            <a:off x="6143760" y="3929040"/>
            <a:ext cx="1928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tent Placeholder 2"/>
          <p:cNvSpPr/>
          <p:nvPr/>
        </p:nvSpPr>
        <p:spPr>
          <a:xfrm>
            <a:off x="3714840" y="3929040"/>
            <a:ext cx="1928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CG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own Arrow 13"/>
          <p:cNvSpPr/>
          <p:nvPr/>
        </p:nvSpPr>
        <p:spPr>
          <a:xfrm>
            <a:off x="1357200" y="321480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own Arrow 14"/>
          <p:cNvSpPr/>
          <p:nvPr/>
        </p:nvSpPr>
        <p:spPr>
          <a:xfrm>
            <a:off x="6572160" y="321480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own Arrow 15"/>
          <p:cNvSpPr/>
          <p:nvPr/>
        </p:nvSpPr>
        <p:spPr>
          <a:xfrm>
            <a:off x="4071960" y="321480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own Arrow 16"/>
          <p:cNvSpPr/>
          <p:nvPr/>
        </p:nvSpPr>
        <p:spPr>
          <a:xfrm>
            <a:off x="1357200" y="4429080"/>
            <a:ext cx="500040" cy="5716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Arrow 17"/>
          <p:cNvSpPr/>
          <p:nvPr/>
        </p:nvSpPr>
        <p:spPr>
          <a:xfrm>
            <a:off x="6572160" y="450072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own Arrow 18"/>
          <p:cNvSpPr/>
          <p:nvPr/>
        </p:nvSpPr>
        <p:spPr>
          <a:xfrm>
            <a:off x="4071960" y="4429080"/>
            <a:ext cx="500040" cy="5716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6000840" y="5214960"/>
            <a:ext cx="2928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RTK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2"/>
          <p:cNvSpPr/>
          <p:nvPr/>
        </p:nvSpPr>
        <p:spPr>
          <a:xfrm>
            <a:off x="3357720" y="5214960"/>
            <a:ext cx="2928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357120" y="5214960"/>
            <a:ext cx="2928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 Rover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357120" y="178596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ndSta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ight Arrow 16"/>
          <p:cNvSpPr/>
          <p:nvPr/>
        </p:nvSpPr>
        <p:spPr>
          <a:xfrm>
            <a:off x="2857680" y="26431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tent Placeholder 2"/>
          <p:cNvSpPr/>
          <p:nvPr/>
        </p:nvSpPr>
        <p:spPr>
          <a:xfrm>
            <a:off x="6858000" y="2643120"/>
            <a:ext cx="192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Rov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ontent Placeholder 2"/>
          <p:cNvSpPr/>
          <p:nvPr/>
        </p:nvSpPr>
        <p:spPr>
          <a:xfrm>
            <a:off x="571680" y="2571840"/>
            <a:ext cx="2643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 New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own Arrow 10"/>
          <p:cNvSpPr/>
          <p:nvPr/>
        </p:nvSpPr>
        <p:spPr>
          <a:xfrm>
            <a:off x="1214280" y="3143160"/>
            <a:ext cx="357480" cy="57168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tent Placeholder 2"/>
          <p:cNvSpPr/>
          <p:nvPr/>
        </p:nvSpPr>
        <p:spPr>
          <a:xfrm>
            <a:off x="3429000" y="1785960"/>
            <a:ext cx="1785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ontent Placeholder 2"/>
          <p:cNvSpPr/>
          <p:nvPr/>
        </p:nvSpPr>
        <p:spPr>
          <a:xfrm>
            <a:off x="285840" y="3857760"/>
            <a:ext cx="3071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ordinate System Par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own Arrow 20"/>
          <p:cNvSpPr/>
          <p:nvPr/>
        </p:nvSpPr>
        <p:spPr>
          <a:xfrm>
            <a:off x="1214280" y="4714920"/>
            <a:ext cx="357480" cy="571320"/>
          </a:xfrm>
          <a:prstGeom prst="downArrow">
            <a:avLst>
              <a:gd name="adj1" fmla="val 50000"/>
              <a:gd name="adj2" fmla="val 4994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ontent Placeholder 2"/>
          <p:cNvSpPr/>
          <p:nvPr/>
        </p:nvSpPr>
        <p:spPr>
          <a:xfrm>
            <a:off x="571680" y="5357880"/>
            <a:ext cx="1857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ave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2"/>
          <p:cNvSpPr/>
          <p:nvPr/>
        </p:nvSpPr>
        <p:spPr>
          <a:xfrm>
            <a:off x="3571920" y="2571840"/>
            <a:ext cx="2643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gure Rover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own Arrow 24"/>
          <p:cNvSpPr/>
          <p:nvPr/>
        </p:nvSpPr>
        <p:spPr>
          <a:xfrm>
            <a:off x="4429080" y="3429000"/>
            <a:ext cx="357120" cy="5716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2"/>
          <p:cNvSpPr/>
          <p:nvPr/>
        </p:nvSpPr>
        <p:spPr>
          <a:xfrm>
            <a:off x="3571920" y="4000680"/>
            <a:ext cx="2143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over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ight Arrow 27"/>
          <p:cNvSpPr/>
          <p:nvPr/>
        </p:nvSpPr>
        <p:spPr>
          <a:xfrm>
            <a:off x="6000840" y="26431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5786280" y="1785960"/>
            <a:ext cx="785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 Rover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357120" y="178596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ndSta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ight Arrow 16"/>
          <p:cNvSpPr/>
          <p:nvPr/>
        </p:nvSpPr>
        <p:spPr>
          <a:xfrm>
            <a:off x="3786120" y="2643120"/>
            <a:ext cx="71460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4572000" y="2571840"/>
            <a:ext cx="1928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571680" y="2571840"/>
            <a:ext cx="2643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tent Placeholder 2"/>
          <p:cNvSpPr/>
          <p:nvPr/>
        </p:nvSpPr>
        <p:spPr>
          <a:xfrm>
            <a:off x="3857760" y="178596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wn Arrow 20"/>
          <p:cNvSpPr/>
          <p:nvPr/>
        </p:nvSpPr>
        <p:spPr>
          <a:xfrm>
            <a:off x="2857680" y="357192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tent Placeholder 2"/>
          <p:cNvSpPr/>
          <p:nvPr/>
        </p:nvSpPr>
        <p:spPr>
          <a:xfrm>
            <a:off x="2428920" y="4214880"/>
            <a:ext cx="2428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te Calib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6357960" y="1785960"/>
            <a:ext cx="785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ontent Placeholder 2"/>
          <p:cNvSpPr/>
          <p:nvPr/>
        </p:nvSpPr>
        <p:spPr>
          <a:xfrm>
            <a:off x="642960" y="2428920"/>
            <a:ext cx="192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0" y="2357280"/>
            <a:ext cx="39290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formation Parameter from WGS84 to Local Coordina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tent Placeholder 2"/>
          <p:cNvSpPr/>
          <p:nvPr/>
        </p:nvSpPr>
        <p:spPr>
          <a:xfrm>
            <a:off x="1857240" y="5143680"/>
            <a:ext cx="150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PS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ight Arrow 30"/>
          <p:cNvSpPr/>
          <p:nvPr/>
        </p:nvSpPr>
        <p:spPr>
          <a:xfrm>
            <a:off x="6429240" y="2643120"/>
            <a:ext cx="71460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7215120" y="2571840"/>
            <a:ext cx="1857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own Arrow 32"/>
          <p:cNvSpPr/>
          <p:nvPr/>
        </p:nvSpPr>
        <p:spPr>
          <a:xfrm>
            <a:off x="3786120" y="4572000"/>
            <a:ext cx="357120" cy="5716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own Arrow 33"/>
          <p:cNvSpPr/>
          <p:nvPr/>
        </p:nvSpPr>
        <p:spPr>
          <a:xfrm>
            <a:off x="2571840" y="4572000"/>
            <a:ext cx="357120" cy="5716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ontent Placeholder 2"/>
          <p:cNvSpPr/>
          <p:nvPr/>
        </p:nvSpPr>
        <p:spPr>
          <a:xfrm>
            <a:off x="3357720" y="51436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id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own Arrow 35"/>
          <p:cNvSpPr/>
          <p:nvPr/>
        </p:nvSpPr>
        <p:spPr>
          <a:xfrm>
            <a:off x="4357800" y="550080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own Arrow 36"/>
          <p:cNvSpPr/>
          <p:nvPr/>
        </p:nvSpPr>
        <p:spPr>
          <a:xfrm>
            <a:off x="3500280" y="5500800"/>
            <a:ext cx="357480" cy="571320"/>
          </a:xfrm>
          <a:prstGeom prst="downArrow">
            <a:avLst>
              <a:gd name="adj1" fmla="val 50000"/>
              <a:gd name="adj2" fmla="val 4994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ontent Placeholder 2"/>
          <p:cNvSpPr/>
          <p:nvPr/>
        </p:nvSpPr>
        <p:spPr>
          <a:xfrm>
            <a:off x="4071960" y="607212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e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ontent Placeholder 2"/>
          <p:cNvSpPr/>
          <p:nvPr/>
        </p:nvSpPr>
        <p:spPr>
          <a:xfrm>
            <a:off x="3143160" y="607212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own Arrow 39"/>
          <p:cNvSpPr/>
          <p:nvPr/>
        </p:nvSpPr>
        <p:spPr>
          <a:xfrm>
            <a:off x="642960" y="357192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0" y="4214880"/>
            <a:ext cx="2428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7 or 3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tup Ba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 Rover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357120" y="178596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ndSta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ight Arrow 16"/>
          <p:cNvSpPr/>
          <p:nvPr/>
        </p:nvSpPr>
        <p:spPr>
          <a:xfrm>
            <a:off x="3929040" y="278604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357120" y="2643120"/>
            <a:ext cx="3929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 at know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3429000" y="1785960"/>
            <a:ext cx="1785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ontent Placeholder 2"/>
          <p:cNvSpPr/>
          <p:nvPr/>
        </p:nvSpPr>
        <p:spPr>
          <a:xfrm>
            <a:off x="5000760" y="2714760"/>
            <a:ext cx="3929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rt the Base at known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4929120" y="3714840"/>
            <a:ext cx="2143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et Gr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ight Arrow 27"/>
          <p:cNvSpPr/>
          <p:nvPr/>
        </p:nvSpPr>
        <p:spPr>
          <a:xfrm>
            <a:off x="3929040" y="371484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5143680" y="1785960"/>
            <a:ext cx="3357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38b2d"/>
                </a:solidFill>
                <a:latin typeface="Arial"/>
              </a:rPr>
              <a:t>Turn off and Turn on the Bas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ntent Placeholder 2"/>
          <p:cNvSpPr/>
          <p:nvPr/>
        </p:nvSpPr>
        <p:spPr>
          <a:xfrm>
            <a:off x="285840" y="3643200"/>
            <a:ext cx="3929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 at unknow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TK Operation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dio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AutoShape 5"/>
          <p:cNvGrpSpPr/>
          <p:nvPr/>
        </p:nvGrpSpPr>
        <p:grpSpPr>
          <a:xfrm>
            <a:off x="1762200" y="5334120"/>
            <a:ext cx="6003720" cy="585720"/>
            <a:chOff x="1762200" y="5334120"/>
            <a:chExt cx="6003720" cy="585720"/>
          </a:xfrm>
        </p:grpSpPr>
        <p:pic>
          <p:nvPicPr>
            <p:cNvPr id="239" name="AutoShape 5" descr=""/>
            <p:cNvPicPr/>
            <p:nvPr/>
          </p:nvPicPr>
          <p:blipFill>
            <a:blip r:embed="rId1"/>
            <a:stretch/>
          </p:blipFill>
          <p:spPr>
            <a:xfrm>
              <a:off x="1762200" y="5334120"/>
              <a:ext cx="60037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808280" y="5380200"/>
              <a:ext cx="5840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 Common Problems and Solut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8"/>
          <p:cNvSpPr/>
          <p:nvPr/>
        </p:nvSpPr>
        <p:spPr>
          <a:xfrm>
            <a:off x="1785960" y="32860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ftware in RT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1785960" y="392904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up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1785960" y="257184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100000">
                <a:srgbClr val="004747">
                  <a:alpha val="90196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eatures of CHC RTK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1785960" y="46432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etup 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285840" y="-143280"/>
            <a:ext cx="942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Common Problems and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56760" y="2928960"/>
            <a:ext cx="4357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ata format of the Base and the Rover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and baud rate are different for the Radio station and R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 is not enough for the Radio Station or the Ro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ontent Placeholder 2"/>
          <p:cNvSpPr/>
          <p:nvPr/>
        </p:nvSpPr>
        <p:spPr>
          <a:xfrm>
            <a:off x="428760" y="1714680"/>
            <a:ext cx="8215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Radio Signal in the Rover (1_Data format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ontent Placeholder 2"/>
          <p:cNvSpPr/>
          <p:nvPr/>
        </p:nvSpPr>
        <p:spPr>
          <a:xfrm>
            <a:off x="4857840" y="2832120"/>
            <a:ext cx="4357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the broadcast data format are the same, e.g. CM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the frequency and baud rate ar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all the battery have enough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ontent Placeholder 2"/>
          <p:cNvSpPr/>
          <p:nvPr/>
        </p:nvSpPr>
        <p:spPr>
          <a:xfrm>
            <a:off x="1143000" y="2214720"/>
            <a:ext cx="2143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5429160" y="2214720"/>
            <a:ext cx="2143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285840" y="-143280"/>
            <a:ext cx="942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Common Problems and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56760" y="2714400"/>
            <a:ext cx="4357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nections of cables and connectors are not connected for the base and radio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adio transmitting antenna fell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distance and power consumption are not ma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ontent Placeholder 2"/>
          <p:cNvSpPr/>
          <p:nvPr/>
        </p:nvSpPr>
        <p:spPr>
          <a:xfrm>
            <a:off x="428760" y="1571760"/>
            <a:ext cx="8715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Radio Signal in the Rover (2_Base And Radio 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ontent Placeholder 2"/>
          <p:cNvSpPr/>
          <p:nvPr/>
        </p:nvSpPr>
        <p:spPr>
          <a:xfrm>
            <a:off x="4786200" y="2714760"/>
            <a:ext cx="43578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e connections and make sure that every part is correctly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and setup the radio transmitting ant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long working distance is with high power value in the radio station, while short distance with low power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tent Placeholder 2"/>
          <p:cNvSpPr/>
          <p:nvPr/>
        </p:nvSpPr>
        <p:spPr>
          <a:xfrm>
            <a:off x="1500120" y="2071800"/>
            <a:ext cx="2143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5929200" y="2000160"/>
            <a:ext cx="2143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7800" y="1642680"/>
            <a:ext cx="61214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 in Bluetooth®, cable fre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que Auto Bas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PRS Module In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W UHF internal transmitter for Base (Op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MG0393A"/>
          <p:cNvPicPr/>
          <p:nvPr/>
        </p:nvPicPr>
        <p:blipFill>
          <a:blip r:embed="rId1"/>
          <a:stretch/>
        </p:blipFill>
        <p:spPr>
          <a:xfrm>
            <a:off x="5214960" y="1643040"/>
            <a:ext cx="3929040" cy="2643120"/>
          </a:xfrm>
          <a:prstGeom prst="rect">
            <a:avLst/>
          </a:prstGeom>
          <a:ln w="0">
            <a:noFill/>
          </a:ln>
        </p:spPr>
      </p:pic>
      <p:sp>
        <p:nvSpPr>
          <p:cNvPr id="60" name="Title 1"/>
          <p:cNvSpPr/>
          <p:nvPr/>
        </p:nvSpPr>
        <p:spPr>
          <a:xfrm>
            <a:off x="0" y="142920"/>
            <a:ext cx="8715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Features of CHC RTK Recei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0" y="713880"/>
            <a:ext cx="4929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X90 GNSS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285840" y="-143280"/>
            <a:ext cx="942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Common Problems and Solu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56760" y="3143160"/>
            <a:ext cx="4357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ver is in the radio blind area or interference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428760" y="1857240"/>
            <a:ext cx="8715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Radio Signal in the Rover (3_Rove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4572000" y="3071880"/>
            <a:ext cx="43578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Rover can receiver the radio signal in other place, it mean this area is radio signal blind area or interference area, change to another surveying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tent Placeholder 2"/>
          <p:cNvSpPr/>
          <p:nvPr/>
        </p:nvSpPr>
        <p:spPr>
          <a:xfrm>
            <a:off x="1143000" y="2428920"/>
            <a:ext cx="2143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ontent Placeholder 2"/>
          <p:cNvSpPr/>
          <p:nvPr/>
        </p:nvSpPr>
        <p:spPr>
          <a:xfrm>
            <a:off x="5429160" y="2357280"/>
            <a:ext cx="2143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571680" y="2214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Lucida Handwriting"/>
                <a:ea typeface="隶书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Lucida Handwriting"/>
                <a:ea typeface="隶书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476360" y="47145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8b2d"/>
                </a:solidFill>
                <a:latin typeface="Lucida Handwriting"/>
              </a:rPr>
              <a:t>http://www.chcnav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5712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que Auto Bas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tible with PDL Data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PRS Module In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nd Width: 410-430MHz/430-450MHz/450-470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4929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X91 GNSS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MG_3209.jpg"/>
          <p:cNvPicPr/>
          <p:nvPr/>
        </p:nvPicPr>
        <p:blipFill>
          <a:blip r:embed="rId1"/>
          <a:stretch/>
        </p:blipFill>
        <p:spPr>
          <a:xfrm>
            <a:off x="4572000" y="1643040"/>
            <a:ext cx="4092480" cy="2786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572000" y="442440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Kristen ITC"/>
              </a:rPr>
              <a:t>Smaller and l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0" y="214200"/>
            <a:ext cx="8715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Features of CHC RTK Recei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428760" y="928440"/>
            <a:ext cx="6215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Handwriting"/>
              </a:rPr>
              <a:t>X90 GPS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IMG_6824.JPG"/>
          <p:cNvPicPr/>
          <p:nvPr/>
        </p:nvPicPr>
        <p:blipFill>
          <a:blip r:embed="rId1"/>
          <a:srcRect l="11479" t="12292" r="14752" b="9021"/>
          <a:stretch/>
        </p:blipFill>
        <p:spPr>
          <a:xfrm>
            <a:off x="5143680" y="1571760"/>
            <a:ext cx="3571560" cy="2539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57120" y="1643040"/>
            <a:ext cx="61214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C Self Developed Engine Ins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4 Chann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gradable to PPK, R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 Static Observation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um tracking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14200" y="142920"/>
            <a:ext cx="8715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Features of CHC RTK Recei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TK Operation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dio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AutoShape 5"/>
          <p:cNvGrpSpPr/>
          <p:nvPr/>
        </p:nvGrpSpPr>
        <p:grpSpPr>
          <a:xfrm>
            <a:off x="1762200" y="3260880"/>
            <a:ext cx="6003720" cy="591840"/>
            <a:chOff x="1762200" y="3260880"/>
            <a:chExt cx="6003720" cy="591840"/>
          </a:xfrm>
        </p:grpSpPr>
        <p:pic>
          <p:nvPicPr>
            <p:cNvPr id="73" name="AutoShape 5" descr=""/>
            <p:cNvPicPr/>
            <p:nvPr/>
          </p:nvPicPr>
          <p:blipFill>
            <a:blip r:embed="rId1"/>
            <a:stretch/>
          </p:blipFill>
          <p:spPr>
            <a:xfrm>
              <a:off x="1762200" y="3260880"/>
              <a:ext cx="600372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808280" y="3308400"/>
              <a:ext cx="5840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Software in RT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8"/>
          <p:cNvSpPr/>
          <p:nvPr/>
        </p:nvSpPr>
        <p:spPr>
          <a:xfrm>
            <a:off x="1785960" y="392904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up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1785960" y="46432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tup 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785960" y="257184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100000">
                <a:srgbClr val="004747">
                  <a:alpha val="90196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eatures of CHC RTK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785960" y="535788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mmon Problems an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65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500040" y="3357720"/>
            <a:ext cx="20001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1280" y="1714680"/>
            <a:ext cx="442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cGPSset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Software for Receiver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C:\DOCUME~1\ZHJ\LOCALS~1\Temp\W7T7F%~%0~IW({5PH2SFSF5.jpg"/>
          <p:cNvPicPr/>
          <p:nvPr/>
        </p:nvPicPr>
        <p:blipFill>
          <a:blip r:embed="rId1"/>
          <a:stretch/>
        </p:blipFill>
        <p:spPr>
          <a:xfrm>
            <a:off x="5143680" y="2286000"/>
            <a:ext cx="323676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14200" y="1643040"/>
            <a:ext cx="40006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cGPRS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software for Radio and GPRS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~1\ZHJ\LOCALS~1\Temp\X)Q[@CZ~UZVD~U8[%J@4`4J.jpg"/>
          <p:cNvPicPr/>
          <p:nvPr/>
        </p:nvPicPr>
        <p:blipFill>
          <a:blip r:embed="rId1"/>
          <a:stretch/>
        </p:blipFill>
        <p:spPr>
          <a:xfrm>
            <a:off x="3929040" y="2714760"/>
            <a:ext cx="2214720" cy="250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~1\ZHJ\LOCALS~1\Temp\8G22[}C%WF(T0WTP57OKQ6B.jpg"/>
          <p:cNvPicPr/>
          <p:nvPr/>
        </p:nvPicPr>
        <p:blipFill>
          <a:blip r:embed="rId2"/>
          <a:stretch/>
        </p:blipFill>
        <p:spPr>
          <a:xfrm>
            <a:off x="6286680" y="2714760"/>
            <a:ext cx="228600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14200" y="1643040"/>
            <a:ext cx="40006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ndSta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software RTK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:\DOCUME~1\ZHJ\LOCALS~1\Temp\%(RYN%~0XMDHX%4`RSL`2YJ.jpg"/>
          <p:cNvPicPr/>
          <p:nvPr/>
        </p:nvPicPr>
        <p:blipFill>
          <a:blip r:embed="rId1"/>
          <a:stretch/>
        </p:blipFill>
        <p:spPr>
          <a:xfrm>
            <a:off x="5429160" y="2214720"/>
            <a:ext cx="3184560" cy="3571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05:06:16Z</dcterms:created>
  <dc:creator>roy</dc:creator>
  <dc:description/>
  <dc:language>en-US</dc:language>
  <cp:lastModifiedBy>张海蛟</cp:lastModifiedBy>
  <dcterms:modified xsi:type="dcterms:W3CDTF">2010-07-08T05:54:19Z</dcterms:modified>
  <cp:revision>617</cp:revision>
  <dc:subject/>
  <dc:title>幻灯片 1</dc:title>
</cp:coreProperties>
</file>